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4D04-08E6-427A-820E-5AECDEA2C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409C-DB3D-46DB-B262-5C40D731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A358-3411-48F4-891B-5A3E8931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C3A5-F442-4AF1-913B-A62AFA52C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BA5B-7863-45BC-A929-14E705E1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CD8F-BC17-4F0C-9769-55BC6EA7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34AC-BB0B-4C69-86E5-5E54BED3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E93B-5AEA-440B-BBED-1369D9E7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FD84-ABDF-4DFA-809E-DF3F8678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53EC-8A8A-4DC1-984A-A6DBFC1C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0678-2670-41AD-AD87-30EA2DEA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8438-4150-4EBA-8DD0-8A1D810D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3E0F-4CD2-4199-BE3F-FC13C3D45F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едрение Ирбис под Linux в Новосибирск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588492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аженов С. Р., ГПНТБ СО 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Зачем нам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 Linux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907560"/>
            <a:ext cx="8415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ая безопасность системы от вирусов, хакеров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аличие серверов под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u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Невозможность приобре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Запрет на работу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8665-7A11-493B-94F4-C23D19BB58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108360" y="124920"/>
            <a:ext cx="937116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Проблемы внедрения ИРБИС под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82840"/>
            <a:ext cx="822960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Отсутствие опыта работы в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ux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трудников библиоте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 Нехватка системных программистов, умеющих работать в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u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Работа в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s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ux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овремен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Отсутствие опыта работы большинства дилеров под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u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E8C9-A4AE-4A55-8A8C-CD2D5E2793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3668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Система работает в небольшом количестве организа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Практически у всех работают только сервера под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u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Большое количество интересующихся возможностью внедрения ИРБИС под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u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465120" y="189000"/>
            <a:ext cx="82296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Внедрение в Новосибирс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434C-158D-41DE-A952-AC03BA0D4A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24000" y="1052640"/>
            <a:ext cx="849600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правление на разработку и внедрение системы ИРБИС под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ux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вляется необходимым и перспектив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Решение этой задачи зависит также и от дилеров, которые сами должны научиться работать 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u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проводить обучение работе в ИРБИС под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u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A361-31D9-4C77-A29E-0D91399F19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-17640" y="322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2698920" y="30430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D488-F01F-425B-83F9-A3E032A840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2T08:34:23Z</dcterms:created>
  <dc:creator>Роман Паршиков</dc:creator>
  <dc:description/>
  <dc:language>en-US</dc:language>
  <cp:lastModifiedBy>Арноси Галина</cp:lastModifiedBy>
  <dcterms:modified xsi:type="dcterms:W3CDTF">2024-12-10T03:53:06Z</dcterms:modified>
  <cp:revision>143</cp:revision>
  <dc:subject/>
  <dc:title>Слайд 1</dc:title>
</cp:coreProperties>
</file>